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F9BD-F3B3-430A-839A-13BB05C53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F8E4-4AC5-4B86-8C1E-60CDDD8A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7B5C-C314-4F0F-A1A5-0ECB80C60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683F-6B51-41E7-A7A0-16A2B8908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A5BB-902E-498B-9213-E4BB5DB5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3AA3-98D5-4556-B767-16F31D80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AE6A-9A73-42C8-B46E-E573AEB1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7563-6F3E-4B95-BA60-BC347A10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46F7-CB41-4CA4-A623-D8E8AAEA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C16C-25A8-4F16-98A1-8C0883EC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25EC-696C-4ECA-ACF7-6EEF3A01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5F83-9F0B-4ABA-9ACD-D60F6CAC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3686-F1E2-4DC2-8189-34ED1891D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92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-883800" y="826920"/>
            <a:ext cx="11197440" cy="317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600" spc="-1" strike="noStrike">
                <a:solidFill>
                  <a:srgbClr val="ffffff"/>
                </a:solidFill>
                <a:latin typeface="Monotype Corsiva"/>
              </a:rPr>
              <a:t>Исусе , </a:t>
            </a: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1" lang="bg-BG" sz="9600" spc="-1" strike="noStrike">
                <a:solidFill>
                  <a:srgbClr val="ffffff"/>
                </a:solidFill>
                <a:latin typeface="Monotype Corsiva"/>
              </a:rPr>
              <a:t>Спасител 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45964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195640" y="404640"/>
            <a:ext cx="6640560" cy="472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Нека да пе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8800" spc="-1" strike="noStrike">
                <a:solidFill>
                  <a:srgbClr val="ffffff"/>
                </a:solidFill>
                <a:latin typeface="Monotype Corsiva"/>
              </a:rPr>
              <a:t>Земят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bg-BG" sz="15600" spc="-1" strike="noStrike">
                <a:solidFill>
                  <a:srgbClr val="ffffff"/>
                </a:solidFill>
                <a:latin typeface="Monotype Corsiva"/>
              </a:rPr>
              <a:t>хвала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-204480" y="1341360"/>
            <a:ext cx="9467640" cy="425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700" spc="-1" strike="noStrike">
                <a:solidFill>
                  <a:srgbClr val="ffffff"/>
                </a:solidFill>
                <a:latin typeface="Monotype Corsiva"/>
              </a:rPr>
              <a:t>слава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        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и почит  н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600" spc="-1" strike="noStrike">
                <a:solidFill>
                  <a:srgbClr val="ffffff"/>
                </a:solidFill>
                <a:latin typeface="Monotype Corsiva"/>
              </a:rPr>
              <a:t>        </a:t>
            </a:r>
            <a:r>
              <a:rPr b="1" lang="bg-BG" sz="9600" spc="-1" strike="noStrike">
                <a:solidFill>
                  <a:srgbClr val="ffffff"/>
                </a:solidFill>
                <a:latin typeface="Monotype Corsiva"/>
              </a:rPr>
              <a:t>Бога  </a:t>
            </a:r>
            <a:r>
              <a:rPr b="1" lang="bg-BG" sz="8800" spc="-1" strike="noStrike">
                <a:solidFill>
                  <a:srgbClr val="ffffff"/>
                </a:solidFill>
                <a:latin typeface="Monotype Corsiva"/>
              </a:rPr>
              <a:t>Отца,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630080" y="555480"/>
            <a:ext cx="766224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хълмове пада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морета буча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68360" y="44280"/>
            <a:ext cx="9791640" cy="6266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пред звука 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7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1" lang="bg-BG" sz="11700" spc="-1" strike="noStrike">
                <a:solidFill>
                  <a:srgbClr val="ffffff"/>
                </a:solidFill>
                <a:latin typeface="Monotype Corsiva"/>
              </a:rPr>
              <a:t>името</a:t>
            </a:r>
            <a:r>
              <a:rPr b="1" lang="bg-BG" sz="129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600" spc="-1" strike="noStrike">
                <a:solidFill>
                  <a:srgbClr val="ffffff"/>
                </a:solidFill>
                <a:latin typeface="Monotype Corsiva"/>
              </a:rPr>
              <a:t>                  </a:t>
            </a:r>
            <a:r>
              <a:rPr b="1" lang="bg-BG" sz="9600" spc="-1" strike="noStrike">
                <a:solidFill>
                  <a:srgbClr val="ffffff"/>
                </a:solidFill>
                <a:latin typeface="Monotype Corsiva"/>
              </a:rPr>
              <a:t>Ти</a:t>
            </a:r>
            <a:r>
              <a:rPr b="1" lang="en-US" sz="9600" spc="-1" strike="noStrike">
                <a:solidFill>
                  <a:srgbClr val="ffffff"/>
                </a:solidFill>
                <a:latin typeface="Monotype Corsiva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5508720" cy="6885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961000" y="-30240"/>
            <a:ext cx="699444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8000" spc="-1" strike="noStrike">
                <a:solidFill>
                  <a:srgbClr val="000000"/>
                </a:solidFill>
                <a:latin typeface="Monotype Corsiva"/>
              </a:rPr>
              <a:t>Пея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 със радос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                  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з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bg-BG" sz="8800" spc="-1" strike="noStrike">
                <a:solidFill>
                  <a:srgbClr val="ffffff"/>
                </a:solidFill>
                <a:latin typeface="Monotype Corsiva"/>
              </a:rPr>
              <a:t>Твойт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                     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дела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726920" y="-125280"/>
            <a:ext cx="8468280" cy="384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8000" spc="-1" strike="noStrike">
                <a:solidFill>
                  <a:srgbClr val="ffffff"/>
                </a:solidFill>
                <a:latin typeface="Monotype Corsiva"/>
              </a:rPr>
              <a:t>щастлив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 съ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да </a:t>
            </a:r>
            <a:r>
              <a:rPr b="1" sz="6000" spc="-1" strike="noStrike">
                <a:solidFill>
                  <a:srgbClr val="ffffff"/>
                </a:solidFill>
                <a:latin typeface="Monotype Corsiva"/>
              </a:rPr>
              <a:t>Т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и подар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        </a:t>
            </a:r>
            <a:r>
              <a:rPr b="1" lang="bg-BG" sz="10600" spc="-1" strike="noStrike">
                <a:solidFill>
                  <a:srgbClr val="ffffff"/>
                </a:solidFill>
                <a:latin typeface="Monotype Corsiva"/>
              </a:rPr>
              <a:t>любовта,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862720" y="260280"/>
            <a:ext cx="6979320" cy="37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няма подобен 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1" lang="bg-BG" sz="11700" spc="-1" strike="noStrike">
                <a:solidFill>
                  <a:srgbClr val="ffffff"/>
                </a:solidFill>
                <a:latin typeface="Monotype Corsiva"/>
              </a:rPr>
              <a:t>Тебе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в този свят</a:t>
            </a: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-883800" y="826920"/>
            <a:ext cx="11197440" cy="317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600" spc="-1" strike="noStrike">
                <a:solidFill>
                  <a:srgbClr val="ffffff"/>
                </a:solidFill>
                <a:latin typeface="Monotype Corsiva"/>
              </a:rPr>
              <a:t>Исусе , </a:t>
            </a: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1" lang="bg-BG" sz="9600" spc="-1" strike="noStrike">
                <a:solidFill>
                  <a:srgbClr val="ffffff"/>
                </a:solidFill>
                <a:latin typeface="Monotype Corsiva"/>
              </a:rPr>
              <a:t>Спасител 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9656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-392760" y="2637000"/>
            <a:ext cx="10077480" cy="1099440"/>
          </a:xfrm>
          <a:prstGeom prst="rect">
            <a:avLst/>
          </a:prstGeom>
          <a:noFill/>
          <a:ln w="0">
            <a:noFill/>
          </a:ln>
          <a:effectLst>
            <a:outerShdw dist="77353" dir="56247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кой е подобен на Теб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-1174320" y="3500280"/>
            <a:ext cx="9352440" cy="311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Всеки де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всичко във ме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9656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392760" y="2637000"/>
            <a:ext cx="10077480" cy="1099440"/>
          </a:xfrm>
          <a:prstGeom prst="rect">
            <a:avLst/>
          </a:prstGeom>
          <a:noFill/>
          <a:ln w="0">
            <a:noFill/>
          </a:ln>
          <a:effectLst>
            <a:outerShdw dist="77353" dir="56247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кой е подобен на Теб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405000" y="620640"/>
            <a:ext cx="9998280" cy="43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ще хвали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                 </a:t>
            </a:r>
            <a:r>
              <a:rPr b="1" lang="bg-BG" sz="9600" spc="-1" strike="noStrike">
                <a:solidFill>
                  <a:srgbClr val="ffffff"/>
                </a:solidFill>
                <a:latin typeface="Monotype Corsiva"/>
              </a:rPr>
              <a:t>чудесата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1" lang="bg-BG" sz="11700" spc="-1" strike="noStrike">
                <a:solidFill>
                  <a:srgbClr val="ffffff"/>
                </a:solidFill>
                <a:latin typeface="Monotype Corsiva"/>
              </a:rPr>
              <a:t>Ти.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9656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0" y="333360"/>
            <a:ext cx="4038480" cy="3029040"/>
          </a:xfrm>
          <a:prstGeom prst="rect">
            <a:avLst/>
          </a:prstGeom>
          <a:ln w="127080">
            <a:solidFill>
              <a:srgbClr val="003300">
                <a:alpha val="62000"/>
              </a:srgbClr>
            </a:solidFill>
            <a:miter/>
          </a:ln>
        </p:spPr>
      </p:pic>
      <p:sp>
        <p:nvSpPr>
          <p:cNvPr id="106" name=""/>
          <p:cNvSpPr txBox="1"/>
          <p:nvPr/>
        </p:nvSpPr>
        <p:spPr>
          <a:xfrm>
            <a:off x="395280" y="5157720"/>
            <a:ext cx="4608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Monotype Corsiva"/>
              </a:rPr>
              <a:t>Утеха,</a:t>
            </a:r>
            <a:endParaRPr b="1" lang="en-US" sz="66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Monotype Corsiva"/>
              <a:ea typeface="Monotype Corsiva"/>
            </a:endParaRPr>
          </a:p>
        </p:txBody>
      </p:sp>
    </p:spTree>
  </p:cSld>
  <p:transition advTm="2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539640" y="40464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Monotype Corsiva"/>
              </a:rPr>
              <a:t>закрила,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Monotype Corsiva"/>
              <a:ea typeface="Monotype Corsiva"/>
            </a:endParaRPr>
          </a:p>
        </p:txBody>
      </p:sp>
    </p:spTree>
  </p:cSld>
  <p:transition advTm="1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324000" y="476280"/>
            <a:ext cx="4968720" cy="1728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Monotype Corsiva"/>
              </a:rPr>
              <a:t>силна опора </a:t>
            </a:r>
            <a:endParaRPr b="1" lang="en-US" sz="60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Monotype Corsiva"/>
              </a:rPr>
              <a:t>Си Ти,</a:t>
            </a:r>
            <a:endParaRPr b="1" lang="en-US" sz="60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Monotype Corsiva"/>
              <a:ea typeface="Monotype Corsiva"/>
            </a:endParaRPr>
          </a:p>
        </p:txBody>
      </p:sp>
    </p:spTree>
  </p:cSld>
  <p:transition advTm="2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-479160" y="5611680"/>
            <a:ext cx="1089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всеки мой дъх , о Господи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79280" y="849240"/>
            <a:ext cx="8280360" cy="532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ще слав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             </a:t>
            </a:r>
            <a:r>
              <a:rPr b="1" lang="bg-BG" sz="11700" spc="-1" strike="noStrike">
                <a:solidFill>
                  <a:srgbClr val="ffffff"/>
                </a:solidFill>
                <a:latin typeface="Monotype Corsiva"/>
              </a:rPr>
              <a:t>Твоята 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                          </a:t>
            </a:r>
            <a:r>
              <a:rPr b="1" lang="bg-BG" sz="10600" spc="-1" strike="noStrike">
                <a:solidFill>
                  <a:srgbClr val="ffffff"/>
                </a:solidFill>
                <a:latin typeface="Monotype Corsiva"/>
              </a:rPr>
              <a:t>любов.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195640" y="404640"/>
            <a:ext cx="6640560" cy="472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Нека да пе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8800" spc="-1" strike="noStrike">
                <a:solidFill>
                  <a:srgbClr val="ffffff"/>
                </a:solidFill>
                <a:latin typeface="Monotype Corsiva"/>
              </a:rPr>
              <a:t>Земят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bg-BG" sz="15600" spc="-1" strike="noStrike">
                <a:solidFill>
                  <a:srgbClr val="ffffff"/>
                </a:solidFill>
                <a:latin typeface="Monotype Corsiva"/>
              </a:rPr>
              <a:t>хвала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-204480" y="1341360"/>
            <a:ext cx="9467640" cy="425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700" spc="-1" strike="noStrike">
                <a:solidFill>
                  <a:srgbClr val="ffffff"/>
                </a:solidFill>
                <a:latin typeface="Monotype Corsiva"/>
              </a:rPr>
              <a:t>слава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        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и почит  н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600" spc="-1" strike="noStrike">
                <a:solidFill>
                  <a:srgbClr val="ffffff"/>
                </a:solidFill>
                <a:latin typeface="Monotype Corsiva"/>
              </a:rPr>
              <a:t>        </a:t>
            </a:r>
            <a:r>
              <a:rPr b="1" lang="bg-BG" sz="9600" spc="-1" strike="noStrike">
                <a:solidFill>
                  <a:srgbClr val="ffffff"/>
                </a:solidFill>
                <a:latin typeface="Monotype Corsiva"/>
              </a:rPr>
              <a:t>Бога  </a:t>
            </a:r>
            <a:r>
              <a:rPr b="1" lang="bg-BG" sz="8800" spc="-1" strike="noStrike">
                <a:solidFill>
                  <a:srgbClr val="ffffff"/>
                </a:solidFill>
                <a:latin typeface="Monotype Corsiva"/>
              </a:rPr>
              <a:t>Отца,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630080" y="555480"/>
            <a:ext cx="766224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хълмове пада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морета буча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68360" y="44280"/>
            <a:ext cx="9791640" cy="6266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пред звука 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7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1" lang="bg-BG" sz="11700" spc="-1" strike="noStrike">
                <a:solidFill>
                  <a:srgbClr val="ffffff"/>
                </a:solidFill>
                <a:latin typeface="Monotype Corsiva"/>
              </a:rPr>
              <a:t>името</a:t>
            </a:r>
            <a:r>
              <a:rPr b="1" lang="bg-BG" sz="129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600" spc="-1" strike="noStrike">
                <a:solidFill>
                  <a:srgbClr val="ffffff"/>
                </a:solidFill>
                <a:latin typeface="Monotype Corsiva"/>
              </a:rPr>
              <a:t>                  </a:t>
            </a:r>
            <a:r>
              <a:rPr b="1" lang="bg-BG" sz="9600" spc="-1" strike="noStrike">
                <a:solidFill>
                  <a:srgbClr val="ffffff"/>
                </a:solidFill>
                <a:latin typeface="Monotype Corsiva"/>
              </a:rPr>
              <a:t>Ти</a:t>
            </a:r>
            <a:r>
              <a:rPr b="1" lang="en-US" sz="9600" spc="-1" strike="noStrike">
                <a:solidFill>
                  <a:srgbClr val="ffffff"/>
                </a:solidFill>
                <a:latin typeface="Monotype Corsiva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1174320" y="3500280"/>
            <a:ext cx="9352440" cy="311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Всеки де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всичко във ме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5508720" cy="6885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961000" y="-30240"/>
            <a:ext cx="699444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8000" spc="-1" strike="noStrike">
                <a:solidFill>
                  <a:srgbClr val="000000"/>
                </a:solidFill>
                <a:latin typeface="Monotype Corsiva"/>
              </a:rPr>
              <a:t>Пея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 със радос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                  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з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bg-BG" sz="8800" spc="-1" strike="noStrike">
                <a:solidFill>
                  <a:srgbClr val="ffffff"/>
                </a:solidFill>
                <a:latin typeface="Monotype Corsiva"/>
              </a:rPr>
              <a:t>Твойт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                     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дела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726920" y="-125280"/>
            <a:ext cx="8468280" cy="384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8000" spc="-1" strike="noStrike">
                <a:solidFill>
                  <a:srgbClr val="ffffff"/>
                </a:solidFill>
                <a:latin typeface="Monotype Corsiva"/>
              </a:rPr>
              <a:t>щастлив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 съ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да </a:t>
            </a:r>
            <a:r>
              <a:rPr b="1" sz="6000" spc="-1" strike="noStrike">
                <a:solidFill>
                  <a:srgbClr val="ffffff"/>
                </a:solidFill>
                <a:latin typeface="Monotype Corsiva"/>
              </a:rPr>
              <a:t>Т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и подар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        </a:t>
            </a:r>
            <a:r>
              <a:rPr b="1" lang="bg-BG" sz="10600" spc="-1" strike="noStrike">
                <a:solidFill>
                  <a:srgbClr val="ffffff"/>
                </a:solidFill>
                <a:latin typeface="Monotype Corsiva"/>
              </a:rPr>
              <a:t>любовта,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862720" y="260280"/>
            <a:ext cx="6979320" cy="37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няма подобен 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1" lang="bg-BG" sz="11700" spc="-1" strike="noStrike">
                <a:solidFill>
                  <a:srgbClr val="ffffff"/>
                </a:solidFill>
                <a:latin typeface="Monotype Corsiva"/>
              </a:rPr>
              <a:t>Тебе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в този свят</a:t>
            </a: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-405000" y="620640"/>
            <a:ext cx="9998280" cy="43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ще хвали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                 </a:t>
            </a:r>
            <a:r>
              <a:rPr b="1" lang="bg-BG" sz="9600" spc="-1" strike="noStrike">
                <a:solidFill>
                  <a:srgbClr val="ffffff"/>
                </a:solidFill>
                <a:latin typeface="Monotype Corsiva"/>
              </a:rPr>
              <a:t>чудесата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1" lang="bg-BG" sz="11700" spc="-1" strike="noStrike">
                <a:solidFill>
                  <a:srgbClr val="ffffff"/>
                </a:solidFill>
                <a:latin typeface="Monotype Corsiva"/>
              </a:rPr>
              <a:t>Ти.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9656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572000" y="333360"/>
            <a:ext cx="4038480" cy="3029040"/>
          </a:xfrm>
          <a:prstGeom prst="rect">
            <a:avLst/>
          </a:prstGeom>
          <a:ln w="127080">
            <a:solidFill>
              <a:srgbClr val="003300">
                <a:alpha val="62000"/>
              </a:srgbClr>
            </a:solidFill>
            <a:miter/>
          </a:ln>
        </p:spPr>
      </p:pic>
      <p:sp>
        <p:nvSpPr>
          <p:cNvPr id="57" name=""/>
          <p:cNvSpPr txBox="1"/>
          <p:nvPr/>
        </p:nvSpPr>
        <p:spPr>
          <a:xfrm>
            <a:off x="395280" y="5157720"/>
            <a:ext cx="4608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Monotype Corsiva"/>
              </a:rPr>
              <a:t>Утеха,</a:t>
            </a:r>
            <a:endParaRPr b="1" lang="en-US" sz="66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Monotype Corsiva"/>
              <a:ea typeface="Monotype Corsiva"/>
            </a:endParaRPr>
          </a:p>
        </p:txBody>
      </p:sp>
    </p:spTree>
  </p:cSld>
  <p:transition advTm="2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539640" y="40464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Monotype Corsiva"/>
              </a:rPr>
              <a:t>закрила,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Monotype Corsiva"/>
              <a:ea typeface="Monotype Corsiva"/>
            </a:endParaRPr>
          </a:p>
        </p:txBody>
      </p:sp>
    </p:spTree>
  </p:cSld>
  <p:transition advTm="1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324000" y="476280"/>
            <a:ext cx="4968720" cy="1728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Monotype Corsiva"/>
              </a:rPr>
              <a:t>силна опора </a:t>
            </a:r>
            <a:endParaRPr b="1" lang="en-US" sz="60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Monotype Corsiva"/>
              </a:rPr>
              <a:t>Си Ти,</a:t>
            </a:r>
            <a:endParaRPr b="1" lang="en-US" sz="60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Monotype Corsiva"/>
              <a:ea typeface="Monotype Corsiva"/>
            </a:endParaRPr>
          </a:p>
        </p:txBody>
      </p:sp>
    </p:spTree>
  </p:cSld>
  <p:transition advTm="2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479160" y="5611680"/>
            <a:ext cx="1089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всеки мой дъх , о Господи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9280" y="849240"/>
            <a:ext cx="8280360" cy="532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ще слав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             </a:t>
            </a:r>
            <a:r>
              <a:rPr b="1" lang="bg-BG" sz="11700" spc="-1" strike="noStrike">
                <a:solidFill>
                  <a:srgbClr val="ffffff"/>
                </a:solidFill>
                <a:latin typeface="Monotype Corsiva"/>
              </a:rPr>
              <a:t>Твоята 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                          </a:t>
            </a:r>
            <a:r>
              <a:rPr b="1" lang="bg-BG" sz="10600" spc="-1" strike="noStrike">
                <a:solidFill>
                  <a:srgbClr val="ffffff"/>
                </a:solidFill>
                <a:latin typeface="Monotype Corsiva"/>
              </a:rPr>
              <a:t>любов.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20:55:12Z</dcterms:created>
  <dc:creator>TrifonTrifonow</dc:creator>
  <dc:description/>
  <dc:language>en-US</dc:language>
  <cp:lastModifiedBy>TrifonTrifonow</cp:lastModifiedBy>
  <dcterms:modified xsi:type="dcterms:W3CDTF">2005-12-15T20:55:49Z</dcterms:modified>
  <cp:revision>1</cp:revision>
  <dc:subject/>
  <dc:title>Slide 1</dc:title>
</cp:coreProperties>
</file>